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E7D-03F9-4CC6-A449-242EDFBB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B39-245C-48AB-9513-DAAD638B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9EF-99D1-4157-A978-A44872F6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B11-121D-45A0-B8B9-772EA218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5363-5C43-47F1-AEEE-173299FD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5BA3-D9A8-42DD-91C9-D911775A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E131-F225-46EB-B342-D6D47EF8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5C73-E501-484B-B446-3BE80102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D2FD-75B3-4031-9828-B759C4C6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CF50-4F9D-40B1-A46E-AEA50D48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DA1A-582B-434A-BB1A-EBB60E15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15B-A1C0-44B4-BA33-846DA025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A120-B575-4170-87F0-FBA651E6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3D92-37C4-4153-814F-28A1F95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FD22-6053-4DE4-9B92-C9A0EFB5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EB37-48CF-4FE0-A767-D5B0EBAC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0BF5-CBA4-461D-9901-82B5A0DD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2D86D-C727-417C-A83B-6AE49FA4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7D949-C9FF-4B7C-B9E9-26B5A071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F7A63-0C83-45BE-9E03-2270A41F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E9F01-CFA3-4002-8F95-147A75A7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CD7CC-08C5-4263-8E6A-C4FD391A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162-EA1F-4483-A4B4-D9BA2479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F2A2-178B-4915-8CD1-7A3933C8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E7E2-6DD7-4743-B814-3DC6781B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EB85-78CA-4082-AF54-15C4D21D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84B0-B2FB-4E8F-A1D1-91D39A03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BC26A-A188-48B4-B213-20778A8A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D404-1C61-4253-B30E-6B8A66AB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27DD6-19B2-41E1-BCB1-D71906FA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062A3-B43F-4F7A-B444-377DF213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3743B-3BCF-4A22-A94F-79B09EE6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F3F1-08E7-42A5-AFA7-AF282198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534-F45A-481A-847E-20F573CA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6BAED-23E2-4187-929A-41400E64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596BD-8CC2-455B-8A67-86C01D79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9E68E-AA99-4547-B10E-D99E1639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E151-3AAD-4AC9-A3AD-2B57B654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F395-126A-444D-BDFA-E1DEE0AC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D8EDA-118C-4B87-8D53-750BBB46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ABD5-CA9C-425E-BA98-BF33A3E5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BA7B-576C-4E01-A078-39779ACD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6FD7B-3312-4F8C-8C00-2A5694E4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F924F-4045-4B01-A6DF-56BED689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C39-B1C0-42C0-BEC2-486CB689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B7E22-822E-45A5-B010-23A5E69E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143D0-1D7C-4C07-8FB6-47C2B04B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1B3E4-8F72-4E78-8441-DDAC18C6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E0D46-3EB7-490E-A33A-00E56B36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96D3E-07D5-4626-AA90-AFC4FD2D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3844A-0DF0-4CF6-B175-805093ED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E8F57-3E8A-4CE8-8B1F-92F3C186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27BB0-FDC8-4AFB-A514-6260C26A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FB44C-028F-4A49-BB58-9AA80DD7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D886B-1AEF-408A-9D4C-E4BB1233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C17-8FA9-47B4-B2BC-B0046E23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5DACE-88C1-4D08-8EDB-943B4C27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FC4-05B8-412F-A2E8-50080D28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BBA-3A8C-4FAC-8455-3F8D6485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505-CE4F-4167-A274-1C8FD91C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C08E-AE89-4C29-BCB9-C7A5E7776424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5225-D118-491C-8CB9-6B23376FBD56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9505-121D-4994-BCAA-2295A35B90FE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FE2B-E4DC-4B48-90BB-E3BF7CD7B81E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2FF0-428A-446A-BE53-2FEACEBC88F6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7772400" cy="2159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autism_ABA.jpg"/>
          <p:cNvPicPr/>
          <p:nvPr/>
        </p:nvPicPr>
        <p:blipFill>
          <a:blip r:embed="rId2"/>
          <a:stretch/>
        </p:blipFill>
        <p:spPr>
          <a:xfrm>
            <a:off x="2700360" y="3573360"/>
            <a:ext cx="4248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124000" y="404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611280" y="1341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95280" y="146592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ольская О.С., Баенская Е. Р., Либлинг М. М. «Аутичный ребенок. Пути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риева Л. Г. «Развитие речи у аутичных де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берт Шрамм «Детский аутизм и АВА. АВА: терапия, основанная на методах прикладного анализа пове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нушко Е. А. «Игры с аутичным ребенк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971640" y="836640"/>
            <a:ext cx="712944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i="1" lang="ru-RU" sz="2800" spc="-1" strike="noStrike" u="sng">
                <a:solidFill>
                  <a:srgbClr val="604a7b"/>
                </a:solidFill>
                <a:uFillTx/>
                <a:latin typeface="Trebuchet MS"/>
              </a:rPr>
              <a:t>Основные направления работы с детьми с аутизм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. Установление эмоционального контакта и выработка продуктивных форм взаимодейств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. Построение на их основе программы социально-бытовой адаптации, а также систематическая работа с родителями, обучение их эффективному лечебно-педагогическому поведению в домашних условиях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3. Подготовка к школе, включающая освоение им новой социальной роли ученика, элементарных навыков письма, счета, чтения, работу по развитию внимания, памяти, воображения, общей и тонкой моторики, выявление и развитие творческих способностей детей, развитие речи и коммуникативных навы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971640" y="836640"/>
            <a:ext cx="72007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rebuchet MS"/>
                <a:ea typeface="Arial"/>
              </a:rPr>
              <a:t>Психолого-педагогические методы и формы коррекционной работы с аутичными деть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Applied behavior analysis, ABA, или “Модификация поведения”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Floor Time (“игровое время”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е межличностных отношений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МО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(Relationship Development Intervention, RDI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ик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TEACCH (Treatment an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Education for Autistic and relate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Communication handicapped Children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Сенсорная интеграц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Песочная 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Анимало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 совместного рис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971640" y="907920"/>
            <a:ext cx="7416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Trebuchet MS"/>
              </a:rPr>
              <a:t>Этапы логопедической работы (Нуриева Л. Г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рвичный конта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первичными учебными навы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указательным жестом и жестами «да» и «не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бучение чт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116000" y="692280"/>
            <a:ext cx="6912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Виды логопедическ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Тренинг с использованием запах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я артикуляторного пракси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структурой простого пред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расширением фразы, над естественным звучанием гол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монолог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1298520"/>
            <a:ext cx="8002440" cy="4864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979640" y="549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rebuchet MS"/>
                <a:ea typeface="Arial"/>
              </a:rPr>
              <a:t>Обучение чт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684360" y="5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2" descr="мяч.jpg"/>
          <p:cNvPicPr/>
          <p:nvPr/>
        </p:nvPicPr>
        <p:blipFill>
          <a:blip r:embed="rId1"/>
          <a:stretch/>
        </p:blipFill>
        <p:spPr>
          <a:xfrm>
            <a:off x="755640" y="98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кукла.jpg"/>
          <p:cNvPicPr/>
          <p:nvPr/>
        </p:nvPicPr>
        <p:blipFill>
          <a:blip r:embed="rId2"/>
          <a:stretch/>
        </p:blipFill>
        <p:spPr>
          <a:xfrm>
            <a:off x="2700360" y="981000"/>
            <a:ext cx="974880" cy="1152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427640" y="1052640"/>
            <a:ext cx="129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4427640" y="907920"/>
            <a:ext cx="91440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4356000" y="1844640"/>
            <a:ext cx="122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4356000" y="1700280"/>
            <a:ext cx="1079640" cy="4334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755640" y="2492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нимание письменных инстру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755640" y="306864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1"/>
          <p:cNvSpPr/>
          <p:nvPr/>
        </p:nvSpPr>
        <p:spPr>
          <a:xfrm>
            <a:off x="4067280" y="306864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ок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755640" y="378936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3"/>
          <p:cNvSpPr/>
          <p:nvPr/>
        </p:nvSpPr>
        <p:spPr>
          <a:xfrm>
            <a:off x="4067280" y="378936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шка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826920" y="4724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предло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6" descr="кошка сидит.jpg"/>
          <p:cNvPicPr/>
          <p:nvPr/>
        </p:nvPicPr>
        <p:blipFill>
          <a:blip r:embed="rId3"/>
          <a:stretch/>
        </p:blipFill>
        <p:spPr>
          <a:xfrm>
            <a:off x="684360" y="5157720"/>
            <a:ext cx="1019160" cy="1295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7" descr="кошка лежит.jpg"/>
          <p:cNvPicPr/>
          <p:nvPr/>
        </p:nvPicPr>
        <p:blipFill>
          <a:blip r:embed="rId4"/>
          <a:stretch/>
        </p:blipFill>
        <p:spPr>
          <a:xfrm>
            <a:off x="1979640" y="515772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8" descr="кошка идет.jpg"/>
          <p:cNvPicPr/>
          <p:nvPr/>
        </p:nvPicPr>
        <p:blipFill>
          <a:blip r:embed="rId5"/>
          <a:stretch/>
        </p:blipFill>
        <p:spPr>
          <a:xfrm>
            <a:off x="3851280" y="5229360"/>
            <a:ext cx="14414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9"/>
          <p:cNvSpPr/>
          <p:nvPr/>
        </p:nvSpPr>
        <p:spPr>
          <a:xfrm>
            <a:off x="5651640" y="4869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0"/>
          <p:cNvSpPr/>
          <p:nvPr/>
        </p:nvSpPr>
        <p:spPr>
          <a:xfrm>
            <a:off x="5651640" y="5445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си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1"/>
          <p:cNvSpPr/>
          <p:nvPr/>
        </p:nvSpPr>
        <p:spPr>
          <a:xfrm>
            <a:off x="5651640" y="6093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205092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лоба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2"/>
          <p:cNvSpPr/>
          <p:nvPr/>
        </p:nvSpPr>
        <p:spPr>
          <a:xfrm>
            <a:off x="2700360" y="333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огов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1397160"/>
          <a:ext cx="3911760" cy="701640"/>
        </p:xfrm>
        <a:graphic>
          <a:graphicData uri="http://schemas.openxmlformats.org/drawingml/2006/table">
            <a:tbl>
              <a:tblPr/>
              <a:tblGrid>
                <a:gridCol w="978120"/>
                <a:gridCol w="977760"/>
                <a:gridCol w="978120"/>
                <a:gridCol w="97776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21"/>
          <p:cNvSpPr/>
          <p:nvPr/>
        </p:nvSpPr>
        <p:spPr>
          <a:xfrm>
            <a:off x="755640" y="9079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 открытых слогов (принцип ло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755640" y="256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составленных из слогов закрыт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900000" y="35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2195640" y="2852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2195640" y="3429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2195640" y="4005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Прямая со стрелкой 29"/>
          <p:cNvCxnSpPr/>
          <p:nvPr/>
        </p:nvCxnSpPr>
        <p:spPr>
          <a:xfrm flipV="1">
            <a:off x="1476360" y="3357000"/>
            <a:ext cx="720000" cy="43236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Прямая со стрелкой 31"/>
          <p:cNvCxnSpPr>
            <a:endCxn id="254" idx="1"/>
          </p:cNvCxnSpPr>
          <p:nvPr/>
        </p:nvCxnSpPr>
        <p:spPr>
          <a:xfrm flipV="1">
            <a:off x="1547640" y="3812760"/>
            <a:ext cx="648360" cy="482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>
            <a:endCxn id="255" idx="1"/>
          </p:cNvCxnSpPr>
          <p:nvPr/>
        </p:nvCxnSpPr>
        <p:spPr>
          <a:xfrm>
            <a:off x="1547640" y="4005000"/>
            <a:ext cx="648360" cy="3848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TextBox 34"/>
          <p:cNvSpPr/>
          <p:nvPr/>
        </p:nvSpPr>
        <p:spPr>
          <a:xfrm>
            <a:off x="900000" y="494172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где буквы написаны на значительном расстоянии (10—15 см) друг от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5"/>
          <p:cNvSpPr/>
          <p:nvPr/>
        </p:nvSpPr>
        <p:spPr>
          <a:xfrm>
            <a:off x="684360" y="5732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______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7"/>
          <p:cNvSpPr/>
          <p:nvPr/>
        </p:nvSpPr>
        <p:spPr>
          <a:xfrm>
            <a:off x="4140360" y="5732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______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1835280" y="6206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налитико-синтетическ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1"/>
          <p:cNvPicPr/>
          <p:nvPr/>
        </p:nvPicPr>
        <p:blipFill>
          <a:blip r:embed="rId1"/>
          <a:stretch/>
        </p:blipFill>
        <p:spPr>
          <a:xfrm>
            <a:off x="1042920" y="1557360"/>
            <a:ext cx="532944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1187280" y="1125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то для определения первого, последнего зву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1258920" y="3789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бор картинок на задан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1"/>
          <p:cNvPicPr/>
          <p:nvPr/>
        </p:nvPicPr>
        <p:blipFill>
          <a:blip r:embed="rId2"/>
          <a:stretch/>
        </p:blipFill>
        <p:spPr>
          <a:xfrm>
            <a:off x="1042920" y="4797360"/>
            <a:ext cx="3038400" cy="1752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1187280" y="407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132000" y="4076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9:01:06Z</dcterms:created>
  <dc:creator>Дружинины</dc:creator>
  <dc:description/>
  <dc:language>en-US</dc:language>
  <cp:lastModifiedBy>ольга мамадалиева</cp:lastModifiedBy>
  <dcterms:modified xsi:type="dcterms:W3CDTF">2021-01-25T15:37:30Z</dcterms:modified>
  <cp:revision>143</cp:revision>
  <dc:subject/>
  <dc:title>Методы работы при аутизме</dc:title>
</cp:coreProperties>
</file>